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5DCF-71D2-47CD-9068-A2FE6797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7E14-C590-4CDE-B305-E0DE63AA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5EE99-586F-45EC-91C8-E9B82CC4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7F419-2ABB-4EB6-8661-CA9F9A94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E21D7-425C-4CEC-AD2F-D3B7635F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20E61-222F-4CA2-9BB9-EFCA9727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ACA80-BAEB-434C-8523-F5F48F8F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3AF84-7BD9-49D8-BD44-0227A072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E63DD-1F2D-45AD-B56F-4F271987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D25CF-85F9-4603-AE79-E272A68E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21A3F-ACD5-4D02-A0AB-E52251B6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E3D10-05A3-4E18-BED9-F2D9B328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5C3-FD6F-4819-B489-9E589039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D5981-6C7D-400B-B479-35836902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16A67-B537-4A57-A51B-D1808A07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25177-2264-470A-9F75-A8EE54AC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957839-8B88-4DAD-9C1C-A82B347E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BF881-81BD-426B-95D0-FB3896E9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E535F-8664-4D90-B15D-ECC9AE80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218B6-15F5-4E76-8EB0-26775E05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391CC-6A78-45A6-87C1-A1E06A61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1CD51-E0C2-42B0-B91D-2D434FFE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34B55-CE2E-4C6F-8B34-DD2101BC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9813-D7F4-4A4C-86DC-A70635D1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C4D39-C1B0-41CD-9F9D-EE0A651E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E18C2-B8BD-470E-B94F-46550A1E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261EF-D474-47D0-92E1-A1F12B86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E30FA-972F-4002-8746-F53B561D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31AAB-2481-4EBD-9F97-5662E87F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670A3-77C2-43CB-9E56-047280A9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94B14-DC49-463C-AF1C-4D1E56A9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63B56-0940-4F19-9AD3-4846EECD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9C0BA-3577-4808-BDCC-0E19EDFF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B316A-FE1B-4F11-BFF1-002943A0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1621-E314-4C62-B13D-E1537042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C8D33-2DF9-491A-BF1F-7279A0BD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6F385-782C-4C4B-8236-4351A812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AB2C5-4534-473E-B2C3-FDBF859E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664DD4-560B-4592-BC28-1D2250EA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7D988-E644-405B-934E-9831E6AD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44BC3-32B7-43A7-9AC3-8BE223E1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FDAF7-03BA-4E6F-B2C2-CAD67038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F631A-FFB4-4A17-B1DE-AC0434B4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F42A8-E752-4FCD-A305-F0CBD3AE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1B9A7-184E-4B33-8BAC-E559BBD7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D1A8-70F4-4203-B8EC-728D697B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9251E-06D9-4FFA-9DED-E1436A86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186B4-5D20-4801-B381-0F6E5888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6BB9D8-5729-4D1F-BB02-64E76B55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6DF1C-7223-4A0E-8B3F-B214AFC1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BF473B-172A-4490-AE07-D237BD97F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90A533-0DB9-4DDD-AC16-55054412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FEDE6-42CC-4FDC-8416-7A97022A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A8A503-1444-41F0-B3DB-20DB1564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5DD22-9A1E-4EB4-B6B2-3C44F3B2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90266-DE6F-4CF9-A7E3-CD072B7D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5C11-9D68-458C-A384-5C402214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815E37-F34E-4CA3-BE3E-A0295975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960512-442D-4973-ABB0-73BDED93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30DB30-2AA3-4E3A-B6E0-9176EDFF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9912AD-4B53-4CA0-86B5-224D4E62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F95A07-C1E9-4D33-A18C-89E7169B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8CFCF-F44E-4D10-BC6D-69DB27BB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5E735-07D3-4EC8-84DC-0431C44B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51D2C9-FBBD-4C45-8826-FAF946A9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42DC69-E5FA-43E0-B050-00DBB714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C6C5F7-BCC3-4818-A020-35E53B1B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9E7A-5C4E-4398-BCE7-8F3F3DCF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FF2DBF-8A4F-4863-8B72-67A6EF50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7BE5EB-5F87-4469-A6B1-3BE0189C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88AA86-1C6E-46AF-8BBB-6DDC57C2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494339-223D-4249-A4AF-97CF95F6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AF42B2-EFE0-4B78-B1BD-C7B344E1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F4AAC0-B608-4A9A-AF57-B54B8E71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C6C384-742F-4859-A3C5-080FE66C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C00590-E192-45B5-8DF7-1CBF4DFC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ECFE45-3A63-4AEF-88FF-CBE33E1F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26C75B-BBCE-4831-B898-5943241E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F19E-1227-4A39-B1D5-85325E24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0BEAE9-F2C8-4F01-BEA6-1D17193D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C4322-B3A8-49F4-B203-F51C4118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13DA49-125A-4184-8336-983CEA46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D8FD4E-D0D5-41FF-9050-0C48827D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60C24E-98A0-4CAE-9CA3-58895E6F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4B369B-4A82-45DC-9EAF-6F63F151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0B73A2-F89A-43EB-99FB-48A2920E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A5E01D-FEC7-41FD-9A0D-CBACF6F6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92ADBC-2B64-4B6F-BE95-D244946C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85483A-025D-4572-ACEE-3FDB748A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BF53-1284-41F0-B24A-233547BB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DA87C5-CBFB-4606-AAB2-E1BB46B3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AF8E62-2A23-4BF4-A445-0506FCE7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3A696B-14D1-4EB1-9FDC-EF642358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39A45C-5ED0-4D2B-B41F-1EBC7479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E8E723-D13A-4C6A-92F5-F7444EE0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E4E994-89C6-4189-8509-0601D66C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CF432B-9536-45E7-8389-9298408C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1F3099-9757-4C92-897F-474E5487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9B0CB0-FE40-4023-B8D6-27D56D8F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E4BE70-D3D1-4ACF-AD82-DE22B681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01D4-6019-4B1A-87A8-1CC95164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364651-17FB-4EDE-8092-4EEB63FC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DB0B9A-B6A3-4A07-9037-785F0F99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B8E548-2D61-4564-AC0A-4214512E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C1CAC2-A55B-4C07-9011-1CEC4FEA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62D0C7-A691-4410-B28F-E3401D38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3A61AF-4459-41C2-A2A1-4FD3440F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29CD92-9CF0-4D9F-ADBD-D71D9B98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FC2360-EB82-45EF-8353-A28C42B7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4F9559-4441-4B0F-9FCF-4DEB8145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74A074-465F-4565-8A4D-A503F936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6F9-DCF1-4C0C-AA43-83BAC847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65E5-4F94-45A1-914A-E812F7DC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723EE9-EDB0-408D-B0CA-C3F8203A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09386C-29F8-48EE-B945-86729040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DD8AFE-E8BE-4BA6-95F1-9B34924F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0E8906-49D1-4CDB-95A1-E9F3C5C4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5F9BC9-1B51-4760-9BE0-5303FD44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69C12A-D9AC-4D32-A62A-E579F473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94B1F9-CF48-40D7-8880-32626CA1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A7E5DF-270D-4213-94BC-6FDDDEAA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4AF4E0-2DDB-4B65-8B45-A69394D6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74ADE3-68A7-4DB3-B156-E6279DE5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35F3-5364-4AB3-8C2E-CFED39E4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59BC54-1749-4A03-95A9-2CAA265C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739A87-B28B-488A-A36A-ADD45A19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1FF27-81EE-484F-A02D-7395ED67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33039C-03E5-49A2-82EA-C60AD1C7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BEC2E6-4CCC-4871-9F60-9FC7211E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B451F6-F231-4572-9D0F-34891129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8CBCD3-052F-4DE4-95ED-C18CEA52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503457-A1D0-4F71-8634-6CA60DBE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C3ECC9-96BA-425D-AFEA-44CFC9BA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990FB9-62F0-471C-80F1-30E14B3E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4B4E-AD12-4234-AD93-F43098C7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6D9E5D-D15D-4577-AF79-268EA80C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59F143-A1D9-43A5-8AED-E276957E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92271B-663C-474F-9B43-5FBCB835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772D12-F881-4727-AAAB-56EAB390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83D4C5-E362-4D74-9E64-F3762AED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752104-D7C4-4795-B7CF-DD26B75B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4519E7-34D0-4693-84B2-1EAC41EA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20C012-EE01-43C0-BFF6-FEDD00CA1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3B91DA-2733-4F6A-ACD9-26F6EF99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E4CAE3-9384-4FD0-A12E-EB42C1E2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843F-D8FF-419E-B2DE-9EB44BC1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E20B65-1F45-427D-8B70-AF1205A7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52E2E7-A97C-43B5-BCA6-97B7E3C8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23A27B-8CC6-4BD7-9D7C-FB0830B4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6FBF72-F77A-4F69-AF07-DC4696DB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FE461C-857E-46F6-B688-AF176507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CC7C2F-BCF5-4E47-AC36-5B4F0A16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20ED78-1F75-4682-814D-98EDFCD5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E8D241-9EBB-4860-9D9D-4A630449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C6D404-0F5D-4CA6-B067-852977C9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8EEAD5-A885-4A1E-8A93-E31E2A84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0199-3990-4CD8-8CBF-E01A5881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6636FF-F07E-42C7-8FC1-1C6357B7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0BBFCE-F931-4DA8-B42B-06A79C39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2427F9-5566-4512-AF46-8C23F0AC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26723B-4564-4F97-9A79-30B10C35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F8D9C4-1D78-438B-864E-CF0C5033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A32671-B169-40A6-9054-A73FD174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C60949-ECE5-463C-AFED-F9A8F8B1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249F4E-1152-433D-856C-85925BF2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3C48B8-8245-4E73-8415-E9B7C10A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0BFC1C-EB5E-4016-A1C3-A1E44B29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D6761-FB84-42C9-8670-E47947ED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A5B9AA-7855-492F-92E6-3FE27BAA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31361D-93CE-4D6C-BA42-D4DAF9FB2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6B13DC-7A22-4555-8811-7367667C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E50A01-FDC2-422C-BD26-27072A91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C6E165-E8DD-45DC-B45F-0F868BDF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3A9AE9-9885-420B-953C-6C5518D9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0A5347-C97E-4A2C-8029-D553EEFC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719701-EE64-4B67-AF82-B350DBCC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ED2856-0B7B-4531-AD8D-76CAA7FB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6FD3AD-6F0A-4B5D-B807-EEA9FE22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70109-795B-48B8-9758-CABDF806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6468D2-122F-4AC3-8B54-B7970147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7E952F-4E73-485C-8D84-220ABAF9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97E85F-40C5-4A79-972A-2C990C53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5FFEED-A89C-4DCA-9C92-35D3B892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84FB74-92CD-4B89-91B8-29BF2EFE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EC8558-D706-4099-92A7-CD6D27F0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197EC6-CAC5-48AC-9B7D-55F46038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78EFA7-89B7-4F58-AC16-E5CD60C8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A7C6CE-0676-4DC5-B829-CFF8A9A7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CF7CCD-4758-4799-960A-FB8741A6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24798-678B-4632-B7F9-72E053A5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FE2AC2-603D-4E63-AB18-B75297B9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AA7868-4843-4478-9F20-055C3943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8856BC-59EF-4844-8E3C-5424CD39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08A47F-4C7D-468E-8E65-C3DF2DEA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053F26-19D1-4A30-967C-5530FC80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0543E8-3B89-4036-8292-5F60CB9B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D58DDC-F2CA-4DEF-BE1F-46B609DE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95AFF-EF1A-4CF2-AB61-CDA4DA41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7CEE6-3596-47D1-BC73-AC7FDB2E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596-F76B-4EA4-8BA9-6BE039B8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C2F38-073B-4910-B4F6-69D90DB1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46AEC-BD50-42E4-9D5D-6EF5A36D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EB3D6-0596-4835-BB4A-6EF50238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C4CD0-2BC0-48F6-8E89-65E4CD21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954CC-A0D3-4A4A-8FAF-3E3CF446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B2254-6FA6-4B9C-BFE0-EF7F0456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D981B-06F9-47A2-9BAD-39CE518E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CB7ED-C10F-435F-B105-9463CA15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7C64D-66DC-4062-A7F3-4D0FE2FA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1997F-59D9-40C2-A57C-39113C87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8C11-7A84-409A-89A3-D76220E9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F8A60-C28A-4DE5-A0B9-5F088739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5C27F-93FB-4D01-AEC7-C4E982FE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280F6-EEC6-4E6C-85E3-AF6E9531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56C02-F071-408B-AF94-AA6C4155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1E04E-C397-4481-8DD2-5E5FBDBA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A5651-344C-4CF6-9601-5A4C0492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9557D-0D93-4231-84C0-424D9BE6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2BB74-6960-44CD-AE5F-E9211881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E981A-F606-4729-B9B5-6BC1CE03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0D9E9-B2BB-48C6-A113-BA51F9E3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FFCD-C0DD-4F0E-8218-6245FB38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BF559-6EAC-4AFF-B0FE-0F7D22AA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030FB-CE35-4942-9CB3-A134FBFF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E7FEB-D6F7-462E-AAEC-022A8E58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713CA-39DB-49A9-B1B4-2B41DB84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DE6FC-E98A-4F8F-AD7B-5F5D2D14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25E7B-FD64-4807-8CA7-4999D838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1DCFD-1E0F-498A-949B-856F2EC7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9D43B-5A13-4312-87B7-4CA16B6F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CF634-C173-449F-BA2D-DF547C13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3EC51-5203-4A25-9B93-DE795BB3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2CC5-DB27-4A76-AF60-5E570B6B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A1A82-063F-4358-A57F-A96BA113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989FA-CB29-42AD-A3F4-A240F6D3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AEB88-D45A-4E18-B704-D041CFE6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8BC64-6842-4537-8D90-6ED43B72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7A003-02CA-43A7-A3BF-CAC414B9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365F2-5E41-4646-A86D-E63714F6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E538A-2D44-43C7-A95F-5C466F83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62453-FBD0-4AD3-84E4-BDB3B481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1378A-E3EE-47AB-A09B-977867C0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B39CD-A8B1-45E5-A054-33AC304E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2F04-7610-4F91-8450-ED3671DC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FDFFB-E91C-4B1D-8DED-95099445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F68F2-7498-4DC0-B908-D35F74FEB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994E8-ABA1-4F6A-881E-9F3492C5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AB0A2-6A51-4D3E-A0CF-C1086A52A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7774F-93C2-4852-8348-3FE4E337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4AFCD-05DC-4FE6-A770-F5DF0990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62887-9899-4059-8E73-41CAB028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038AD-0892-44D7-92AB-11C246F4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EFA91-202F-47A5-8F8B-3D75BC1E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7F49F-BEA3-4EA2-B0B8-C24D66AA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B3E-9AF8-44C9-B480-AD998C61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26D7B-74F2-48FF-971D-A00C2519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1F516-2AE0-42F5-8A18-BF08000B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A24E8-DF20-4234-B6C1-D6847E16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FD3D3-E9A2-4A14-8670-CE9009E8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EF10F-C56E-4B37-8237-7BA70509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25577-BC5A-4C34-8B3D-BDCDA6B0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E7BAB-F7EC-49E1-896A-2D1B4C61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FD99E-A683-46DF-9137-EBC6D84E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74C56-6269-4C8B-AD44-AC74EA62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7D1FE-0E97-4322-9B6A-D635EFDD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C4C-6E0B-452C-861F-6E661807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88D65-B5CA-4827-9B6F-DB60CE0E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4455A-78A8-414B-8E25-8EBF63B0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AACB8-D20B-4BB6-A0E0-E684220C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7741E-D7CE-425E-9901-AF9B4C2C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C74C6-D9AE-4540-AB3D-4E20A365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96A16-C447-46C1-A6A5-9242065D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B5AF6-A4A3-42DA-B561-48916245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8C09E-E5EF-452D-A69B-2B8EBFA5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11D20-5A56-4161-88BC-B55FFD4D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CF609-9424-4887-AC46-D18B3DFD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3EFB-2204-4DEE-8763-050D3FBA42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BDEA-EECA-4D29-A3FE-E5D1CA9B45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9AB6-EAC9-4672-BF00-9744108F43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6A7B-6A8A-467E-82BF-BD1DC7DEF4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C5CC-203B-431F-A03F-7502BDD1E2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5502-FC2D-4342-987A-797B8026C7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3D25-13AC-4017-98FC-FAC5648076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AADE-0AF3-453E-A544-9AE924DA1F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D389-E596-4D1C-93BB-CB60E4BEC9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2C64-16D4-4547-B8CA-986878041E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14AC-844C-4396-8544-7DB01A910E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5838-BF04-467E-A7B3-3D9AA8ED8E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B2B6-DFEA-48D1-A0F4-0B3B9CE5AE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F247-22D5-45B6-B348-00EE51663B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2E67-B9AD-4278-BBF2-944484CE3D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7C2C-CA6F-48D1-B997-AE01C3EC83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4407-653C-43C5-866E-08333B7F84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E32C-8C27-48AA-8141-C032A28E1B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019B-3DAF-4171-B45E-170DF2E3ED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8C04-D615-4853-97E5-5A6B7547E1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55F3-227B-4D5C-9881-3B3EB0585F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E4C6-F4E0-4465-BB74-44EED97963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F482-C03D-498E-82C8-BC27F14242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97B9-1724-4349-A6B9-8A5F598FF3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7412-3E67-46AD-B709-9B97E9824C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B6DD-D7A3-4801-A5D3-084F4F4232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9687-5B63-457F-9A55-AEB50A0B1F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EE67-B33B-472B-AEB3-BA62227BB6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D435-9040-4FA9-9830-880EF11BE9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3E43-3228-46A4-95C4-A424E110AE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E46F-0D81-4AB8-AC5C-67C99177B6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3427-A0B7-4032-9089-841333A588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7929-A8C7-44BC-8EEF-19B9C8F5F9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20D1-740C-4B58-8336-F6E321EEF42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C363-4023-419F-8EBE-34CE8531AB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A0F9-48E8-49AB-875D-7628D1B55A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2F06-F918-46C4-9F94-36CD2E45EC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BD65-305E-43F4-93E2-166A35E82B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B4C7-D536-483D-9CC8-D72B4A64B8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89A6-1235-4684-8C8A-27968ED795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DA49-47D6-47F7-8B91-9AD4AEAFD1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7B2B-A993-4E41-9995-1CE6A636F2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990800" y="3143160"/>
            <a:ext cx="51624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42920" y="976320"/>
            <a:ext cx="8858160" cy="49053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539640" y="2550960"/>
            <a:ext cx="1511280" cy="11527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419120" y="2205000"/>
            <a:ext cx="849240" cy="3189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2556000" y="2565360"/>
            <a:ext cx="1511280" cy="115272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3435480" y="2219400"/>
            <a:ext cx="84924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4745160" y="2535120"/>
            <a:ext cx="1511280" cy="11527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5624640" y="2189160"/>
            <a:ext cx="849240" cy="3189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6948360" y="253692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7827840" y="2190600"/>
            <a:ext cx="849600" cy="3193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10"/>
          <a:stretch/>
        </p:blipFill>
        <p:spPr>
          <a:xfrm>
            <a:off x="1820880" y="54309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11"/>
          <a:stretch/>
        </p:blipFill>
        <p:spPr>
          <a:xfrm>
            <a:off x="2843280" y="4653000"/>
            <a:ext cx="1297080" cy="10810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12"/>
          <a:stretch/>
        </p:blipFill>
        <p:spPr>
          <a:xfrm>
            <a:off x="5724360" y="54309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13"/>
          <a:stretch/>
        </p:blipFill>
        <p:spPr>
          <a:xfrm>
            <a:off x="6862680" y="4653000"/>
            <a:ext cx="12970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885960" y="2305080"/>
            <a:ext cx="7372080" cy="22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4067280" y="3068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5651640" y="3068640"/>
            <a:ext cx="576000" cy="3189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7308720" y="306864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5"/>
          <a:stretch/>
        </p:blipFill>
        <p:spPr>
          <a:xfrm>
            <a:off x="4067280" y="39337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6"/>
          <a:stretch/>
        </p:blipFill>
        <p:spPr>
          <a:xfrm>
            <a:off x="5651640" y="3933720"/>
            <a:ext cx="576000" cy="3193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7"/>
          <a:stretch/>
        </p:blipFill>
        <p:spPr>
          <a:xfrm>
            <a:off x="7308720" y="3933720"/>
            <a:ext cx="6480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90360" y="1238400"/>
            <a:ext cx="8963280" cy="43812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2"/>
          <a:stretch/>
        </p:blipFill>
        <p:spPr>
          <a:xfrm>
            <a:off x="468360" y="2349360"/>
            <a:ext cx="3311640" cy="319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3"/>
          <a:stretch/>
        </p:blipFill>
        <p:spPr>
          <a:xfrm>
            <a:off x="468360" y="2736720"/>
            <a:ext cx="3311640" cy="3193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4"/>
          <a:stretch/>
        </p:blipFill>
        <p:spPr>
          <a:xfrm>
            <a:off x="395280" y="4797360"/>
            <a:ext cx="4897440" cy="3193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5"/>
          <a:stretch/>
        </p:blipFill>
        <p:spPr>
          <a:xfrm>
            <a:off x="395280" y="5184720"/>
            <a:ext cx="489744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10:17:37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